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831-6F7B-491E-8DF9-325E4D4F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BBE-93AC-4D04-AB7D-9CD3DE6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A4A-DA25-4690-9750-533487F3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BED-5F24-4802-924F-F85F7E5E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EFF-9E60-4288-88DB-17A39FC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FF5-CB22-4019-B53F-13CE871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00D-1D47-429F-97A8-48DF2856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772-2BCF-4FDD-9E14-9195D74B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210-57DC-43F3-80E5-23A995EA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C6A-833F-4297-A182-C4A4704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E1B-5FB4-4F0C-A1BF-4518810B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161-B450-40E2-9BF8-8495C69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4D1-62C8-44F5-86FF-7B5C4BE4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AkoepZtvaXg&amp;feature=related" TargetMode="External"/><Relationship Id="rId2" Type="http://schemas.openxmlformats.org/officeDocument/2006/relationships/hyperlink" Target="http://ca.youtube.com/watch?v=d-hEkyYUXSo&amp;feature=related" TargetMode="External"/><Relationship Id="rId3" Type="http://schemas.openxmlformats.org/officeDocument/2006/relationships/hyperlink" Target="http://ca.youtube.com/watch?v=x4WEqWlp29U&amp;feature=related" TargetMode="External"/><Relationship Id="rId4" Type="http://schemas.openxmlformats.org/officeDocument/2006/relationships/hyperlink" Target="http://ca.youtube.com/watch?v=dU5-AvyEgl0&amp;feature=related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AGlXPWSX1I&amp;feature=related" TargetMode="External"/><Relationship Id="rId2" Type="http://schemas.openxmlformats.org/officeDocument/2006/relationships/hyperlink" Target="http://www.youtube.com/watch?v=5pZj0u_XMbc" TargetMode="External"/><Relationship Id="rId3" Type="http://schemas.openxmlformats.org/officeDocument/2006/relationships/hyperlink" Target="http://www.youtube.com/watch?v=vUzTQWn-wfE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KT7xJ0tjB4A&amp;NR=1" TargetMode="External"/><Relationship Id="rId2" Type="http://schemas.openxmlformats.org/officeDocument/2006/relationships/hyperlink" Target="http://www.youtube.com/watch?v=N7C14UIKuv8&amp;feature=related" TargetMode="External"/><Relationship Id="rId3" Type="http://schemas.openxmlformats.org/officeDocument/2006/relationships/hyperlink" Target="http://www.youtube.com/watch?v=Znby3t3AS5s" TargetMode="External"/><Relationship Id="rId4" Type="http://schemas.openxmlformats.org/officeDocument/2006/relationships/hyperlink" Target="http://www.youtube.com/watch?v=5MMWpeJ5dn4" TargetMode="External"/><Relationship Id="rId5" Type="http://schemas.openxmlformats.org/officeDocument/2006/relationships/hyperlink" Target="http://www.youtube.com/watch?v=wm0bIuAVmOA" TargetMode="External"/><Relationship Id="rId6" Type="http://schemas.openxmlformats.org/officeDocument/2006/relationships/hyperlink" Target="http://www.youtube.com/watch?v=CrxqTtiWxs4" TargetMode="External"/><Relationship Id="rId7" Type="http://schemas.openxmlformats.org/officeDocument/2006/relationships/hyperlink" Target="http://www.youtube.com/watch?v=EN-jCuV7BoU" TargetMode="External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History, the Numbers, and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”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295520" cy="561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0360" y="1916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are similar and one is clearly a wei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” Orbitals Shapes a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814400"/>
            <a:ext cx="72864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62040" y="219240"/>
            <a:ext cx="601992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fv-YeI4hcQ4&amp;NR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fv-YeI4hcQ4&amp;NR=1&amp;feature=fvw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80643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Number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400040"/>
            <a:ext cx="7943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end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700280"/>
            <a:ext cx="82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ment of the Periodic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AkoepZtvaX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Radi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.youtube.com/watch?v=d-hEkyYUXSo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zation Ener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.youtube.com/watch?v=x4WEqWlp29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Affin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.youtube.com/watch?v=dU5-AvyEgl0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ends Challe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 energy is ALWAYS pos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information below and decide on a possible valence shell electron configuration that would satisfy the data the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00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400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700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5 000 kJ/mol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2 800 kJ/m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istory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is no longer a sphere (Dalton) or a planetary model (Bohr-Ruther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AGlXPWSX1I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ter Weather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Zj0u_XM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utherford Gold Fo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vUzTQWn-w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Summary of Scientists in s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 Broglie:  Matter can exist as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hr and the Copenhagen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ompliment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184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5904000" cy="445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Everyone was Confus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Diffraction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ppens when you walk through a doorframe?  Do you know your position and moment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ppens when light goes through a sl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senberg Uncertainty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a.youtube.com/watch?v=KT7xJ0tjB4A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Mechanic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052640"/>
            <a:ext cx="82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senberg Uncertainty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KT7xJ0tjB4A&amp;N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De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N7C14UIKuv8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Mechanics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Znby3t3AS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Wave D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7GTCus7KTb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Numbers and the 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5MMWpeJ5d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s of 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youtube.com/watch?v=wm0bIuAVm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odinger’s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CrxqTtiWx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EN-jCuV7B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BBC short with real c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65280" y="260280"/>
            <a:ext cx="603108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rbital Shapes and the Periodic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5MMWpeJ5dn4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21560" cy="583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57800" y="40464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” and “p”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36:31Z</dcterms:created>
  <dc:creator>FradkiL</dc:creator>
  <dc:description/>
  <dc:language>en-US</dc:language>
  <cp:lastModifiedBy>Teachers</cp:lastModifiedBy>
  <dcterms:modified xsi:type="dcterms:W3CDTF">2010-09-14T18:55:23Z</dcterms:modified>
  <cp:revision>15</cp:revision>
  <dc:subject/>
  <dc:title>Slide 1</dc:title>
</cp:coreProperties>
</file>